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B08-6727-4D6E-B5E3-ABC74945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43C-B45A-432A-992F-DD738CBB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41F-F69C-4611-85CD-02462D5B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216-233B-449D-ADCB-7BB42DB7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91B-F4D3-4AB8-AB1D-CCAC28C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382-A9EC-47B3-9DD0-C3371727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3C4-0526-4A90-BF60-A4725DC2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41D-C728-4D8E-B976-1281AF7C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4DF-4197-46B2-BA8E-8AA5D11E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BBA-2AC1-49B1-A483-D203565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E79-FE98-451F-8942-FAC93847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FEB-C83B-4AF3-8741-9F8013CA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A199-2C34-4F1E-A7D3-06611E307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       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0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terminamos la practica para la Prueba 1: Capitulo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- 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1639800" cy="167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76520" y="3708360"/>
            <a:ext cx="1828800" cy="1244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2895480"/>
            <a:ext cx="1828800" cy="11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1298520" cy="130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620120" y="2819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809880" y="4952880"/>
            <a:ext cx="1160640" cy="140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715000" y="4800600"/>
            <a:ext cx="3162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- Copia y completa las o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gente revisa __________ y el bol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pongo el equipaje en la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no puede entrar en el _________ sin una tarjeta de 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_______ AA 203 sale para Madrid a las 5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un pasapor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raes muchos libros a la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vienes a la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Haces tu tarea en la escuela o en la ca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Sales con tu familia en el fin de sem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V- Conjuga los verb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988920"/>
          <a:ext cx="8839440" cy="5077080"/>
        </p:xfrm>
        <a:graphic>
          <a:graphicData uri="http://schemas.openxmlformats.org/drawingml/2006/table">
            <a:tbl>
              <a:tblPr/>
              <a:tblGrid>
                <a:gridCol w="1981440"/>
                <a:gridCol w="1371600"/>
                <a:gridCol w="1371600"/>
                <a:gridCol w="1371600"/>
                <a:gridCol w="1371600"/>
                <a:gridCol w="137160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-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-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- Copia y 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 la tarea a tiempo. (tra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tonio ______ a la fiesta. (ve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 la maleta de mi hija. (ha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i examen en el escritorio del profesor. (po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sajeros ____________ en el vuelo D502. (sa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los materiales a clase. (tra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________ de Puerto Rico. (ve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_ muchos proyectos. (ha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sotros _________ la ropa en la maleta. (po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rique _________ de casa a las 8am. (sa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Quiz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ort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r, traer, salir, poner y venir ver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3:03:41Z</dcterms:created>
  <dc:creator>Helen Zumaeta</dc:creator>
  <dc:description/>
  <dc:language>en-US</dc:language>
  <cp:lastModifiedBy>Helen Zumaeta</cp:lastModifiedBy>
  <dcterms:modified xsi:type="dcterms:W3CDTF">2013-01-29T18:50:31Z</dcterms:modified>
  <cp:revision>2</cp:revision>
  <dc:subject/>
  <dc:title>Me llamo _________         Clase 7 IM La fecha es el 20 de octubre del 2011</dc:title>
</cp:coreProperties>
</file>